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5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6B61-DFB7-4A41-A29D-73B77F598B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8EB2-1284-4DE8-95B3-2A327449CC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852720" y="9375840"/>
            <a:ext cx="294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B4235-0E73-40BD-AA91-BA780C48D4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74720"/>
            <a:ext cx="4995720" cy="37479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7920" y="4743360"/>
            <a:ext cx="4981680" cy="44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0C97-D30D-4756-8ABA-81729F5861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8FCC2-027F-46D9-ACE0-018A1409CD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610C-C923-44E9-A7D5-F812AA7669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0952-BC43-4536-9E63-ED26992FE2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2B44-D579-4459-B2BA-9B03F6AE7D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149-CBDE-4E44-96D3-734606D5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16AE-8C77-472B-853B-2718C469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485-9CE4-4714-9201-3179B899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1E4-C730-47A7-B7AB-505C3934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DF6-0956-4FE2-8210-5B0B5951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B104-F837-4EFB-9F7E-B55CA32F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CFE-53D0-4845-8E65-3A1A639F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9DC-1D5A-475A-938F-C0F38057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D715-E520-4507-B615-11F7C91F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AD3-17D1-42D1-8B72-19E899EA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9AE-5083-4F46-8EE1-4E3C3136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3AC-A9EE-412F-BF5D-77756E6C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AA85-0E94-47A1-8A12-EB1E2C965C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500040"/>
            <a:ext cx="83041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данных о работе скорой медицинской помощи в форме федерального статистического наблюдения № 30 «Сведения о медицинской организации» за 2019 год.</a:t>
            </a:r>
            <a:br>
              <a:rPr sz="3500"/>
            </a:b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штатных и занятых должностях персонала станции (отделения) скорой медицинской помощи показываются как дробными числами (0,25, 0,5 и 0,75 должности), так и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8920" y="2854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2876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. = 30.1105.1.04. + 30.1105.1.05 + 30.1105.1.06 + 30.1105.1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. = 30.1105.2.04. + 30.1105.2.05 + 30.1105.2.06 + 30.1105.2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основных работников на занятых должностях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. = 30.1105.3.04. + 30.1105.3.05 + 30.1105.3.06 + 30.1105.3.07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одержимое 2"/>
          <p:cNvSpPr/>
          <p:nvPr/>
        </p:nvSpPr>
        <p:spPr>
          <a:xfrm>
            <a:off x="357120" y="1268280"/>
            <a:ext cx="86472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убъектах, где работают только самостоятельные станции скорой медицинской помощи данные о должностях должны совпадать со сведениями в форме 47 табл. 1800 стр. 16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3 = 47.1800.16.0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3 = 47.1800.16.04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сего персонала станци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3 = 47.1800.16.05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одержимое 2"/>
          <p:cNvSpPr/>
          <p:nvPr/>
        </p:nvSpPr>
        <p:spPr>
          <a:xfrm>
            <a:off x="285840" y="1557360"/>
            <a:ext cx="86454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4 = 47.1800.16.06 + 47.1800.16.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4 = 47.1800.16.07 + 47.1800.16.1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врачей стан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4 = 47.1800.16.08  + 47.1800.16.1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5 = 47.1800.16.18 + 47.1800.16.1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5 = 47.1800.16.19 + 47.1800.16.1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среднего медицинского персонала станци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5 = 47.1800.16.20 + 47.1800.16.17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6 = 47.1800.16.2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6 = 47.1800.16.2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младшего медицинско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6 = 47.1800.16.23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одержимое 2"/>
          <p:cNvSpPr/>
          <p:nvPr/>
        </p:nvSpPr>
        <p:spPr>
          <a:xfrm>
            <a:off x="395280" y="1387440"/>
            <a:ext cx="8535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r>
              <a:rPr b="1" i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штатн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1.07 = 47.1800.16.09 + 47.1800.16.24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занятых должностей прочего персонала станци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2.07 = 47.1800.16.10 + 47.1800.16.25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физических лиц прочего персонала станции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105.3.07 = 47.1800.16.11 + 47.1800.16.26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483920"/>
            <a:ext cx="83293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9280" y="1413000"/>
          <a:ext cx="8856720" cy="5163840"/>
        </p:xfrm>
        <a:graphic>
          <a:graphicData uri="http://schemas.openxmlformats.org/drawingml/2006/table">
            <a:tbl>
              <a:tblPr/>
              <a:tblGrid>
                <a:gridCol w="2214720"/>
                <a:gridCol w="519120"/>
                <a:gridCol w="619200"/>
                <a:gridCol w="874440"/>
                <a:gridCol w="839880"/>
                <a:gridCol w="728640"/>
                <a:gridCol w="509760"/>
                <a:gridCol w="728640"/>
                <a:gridCol w="887400"/>
                <a:gridCol w="934920"/>
              </a:tblGrid>
              <a:tr h="152640"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 доставленных в медицинские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гр. 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скорой медицинской помощи по поводу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ая эвакуа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авл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запных заболева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остоя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ов и патологии беремен-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оль-ничная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ых, рожениц и родильниц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776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о вызовов скорой медицинской помощ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 детя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при выполнении вызово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5160" rIns="65160" tIns="0" bIns="0" anchor="t">
                      <a:noAutofit/>
                    </a:bodyPr>
                    <a:p>
                      <a:pPr marL="208080"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0808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ельских населенных  пунктах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умерших в автомобиле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 стр. 3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algn="just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расте до 1 год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щин старше трудоспособного возрас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65160" rIns="65160" tIns="0" bIns="0" anchor="t">
                      <a:noAutofit/>
                    </a:bodyPr>
                    <a:p>
                      <a:pPr marL="117360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жчин старше трудоспособного возраст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b">
                      <a:noAutofit/>
                    </a:bodyPr>
                    <a:p>
                      <a:pPr algn="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 Министерства здравоохранения Российской Федерации № 388н  от 20 июня 2013 г. (приложение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920" y="1601280"/>
            <a:ext cx="850104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выездными бригадами скорой медицинской помощ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эвакуация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осуществляться с места происшествия или места нахождения пациента (вне медицинской организации), а также из медицинской организации, в которой отсутствует возможность оказания необходимой медицинской помощи при угрожающих жизни состояниях, женщин в период беременности, родов, послеродовой период и новорожденных, лиц, пострадавших в результате чрезвычайных ситуаций и стихийных бедствий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55640" y="765000"/>
            <a:ext cx="77868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ции № 388н от 20 июня 2013  г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утверждении порядка оказания скорой, в том числе скорой специализированной, медицинской помощи»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едакции от 19 апреля 2019 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37396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23640" y="2492280"/>
            <a:ext cx="85359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с 5 по 9 графы 1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трокам 7, 8, 9 графы 6 и 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исло выполненных вызовов бригадами скорой медицинской помощи (стр. 1 гр. 3) не включаются безрезультатные вызов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0920" y="2205000"/>
            <a:ext cx="8407440" cy="40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детям (форма 30 табл. 2120 стр. 2 гр. 3) не должно быть больше числа детей, которым оказана скорая медицинская помощь при вызовах (форма 30 табл. 2121 стр. 1 гр. 3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2.03 &lt; = 30.2120.1.03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285480"/>
            <a:ext cx="811872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213336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к лицам, доставленных в медицинские организации (форма 30 табл. 2120 стр. 1 гр. 10) не должно быть больше числа лиц, доставленных в медицинские организации (форма 30 табл. 2120 стр. 3 гр. 10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10 &lt; = 30.2120.3.10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7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2205000"/>
            <a:ext cx="82296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олненных вызовов в связи с медицинской эвакуацией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1.07 = 47.0400.1.08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872480" cy="18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20 «Медицинская помощь, оказанная выездными бригадами скорой медицинской помощи при выполнении вызовов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280" y="2276280"/>
            <a:ext cx="8358120" cy="41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доставленных в медицинские организаци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10 = 47.0400.1.1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3640" y="213840"/>
            <a:ext cx="840564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57120" y="1143000"/>
            <a:ext cx="8607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 «Число лиц, которым оказана скорая медицинская помощь при выполнении вызовов» по возраст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, всего  1 ____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сельских жителей  2 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м числе (из стр. 1)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 (0-17 лет) 3 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(18 лет и старше) 4 _________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 (из стр. 4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нщины старше трудоспособного возраста 5 _____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жчины старше трудоспособного возраста 6 _____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12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2960" y="1341360"/>
            <a:ext cx="81770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при выполнении вызовов всего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2121.1.03 + 30.2121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1.1.01 =  30. 2120.3.03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57120" y="1341000"/>
            <a:ext cx="83296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9280" y="1268280"/>
          <a:ext cx="8715600" cy="5400720"/>
        </p:xfrm>
        <a:graphic>
          <a:graphicData uri="http://schemas.openxmlformats.org/drawingml/2006/table">
            <a:tbl>
              <a:tblPr/>
              <a:tblGrid>
                <a:gridCol w="4537080"/>
                <a:gridCol w="503280"/>
                <a:gridCol w="916200"/>
                <a:gridCol w="1306440"/>
                <a:gridCol w="1452600"/>
              </a:tblGrid>
              <a:tr h="14320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 и профиль брига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мен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глосуточн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лиц, которым оказана скорая медицинская помощь  выездны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игад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профиль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 врачебны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t">
                      <a:noAutofit/>
                    </a:bodyPr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для оказания медицинско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ощи детскому населению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ельдшер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зированные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53640" rIns="536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езиологии-реанимации 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атр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035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ездные экстренные консультативные бригады, 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 кардиологиче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врологическ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53640" rIns="53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иамедицински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1996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95280" y="2356920"/>
            <a:ext cx="83534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игада скорой медицинской помощ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труктурно-функциональная единица станции (подстанции, отделения) скорой медицинской помощи, организованная в соответствии со штатными нормативами для обеспечения работы в одну смену (6 часов) (1 круглосуточная бригада = 4 бригады (смены)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2080" indent="-172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42976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, в том числе скорая специализированная, медицинская помощ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2960" y="1557360"/>
            <a:ext cx="78897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 при заболеваниях, несчастных случаях, травмах, отравлениях и других состояниях, требующих срочного медицинского вмешательства вне медицинской организации, в амбулаторных и стационарных условиях.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ая медицинская помощь осуществляется на основе стандартов медицинской помощи и с учетом клинических рекомендаций (протоколов лечения)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 (графа 3) заполняется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4 «из них число выездных круглосуточных бригад скорой медицинской помощи» заполняются данные только о бригадах скорой медицинской помощи, работающих 24 часа в сутки в целых числ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5840" y="235728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ые бригады скорой медицинской помощи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офилю подразделяются 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00040" y="19285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е выездные бригады  скорой медицинской помощи подразделяются на бригад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естезиологии-реанимации, в том числе 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атрическ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тренные консультативны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83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95280" y="1557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прочих специализированных бригад скорой медицинской помощи следует предоставить пояснение по их работе (число выездных бригад (смен), из них круглосуточных, число лиц, которым оказана скорая медицинская помощ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854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78920" y="150012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врачебная выездная бригада скорой медицинской помощ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 скорой медицинской помощи, фельдшера скорой медицинской помощи и водителя, либо врача скорой медицинской помощи, медицинскую сестру (медицинского брата) и водителя, либо врача скорой медицинской помощи, фельдшера скорой медицинской помощи, фельдшера скорой медицинской помощи или медицинскую сестру (медицинского брата) и водителя. Для организации деятельности общепрофильной врачебной выездной бригады скорой медицинской помощи используется автомобиль скорой медицинской помощи класса «B»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-360" y="148428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ая фельдшерская выездная бригада скорой медицинской помощи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двух фельдшеров скорой медицинской помощи и водителя, либо фельдшера скорой медицинской помощи, медицинскую сестру (медицинского брата) и водителя. Для организации деятельности общепрофильной фельдшерской выездной бригады скорой медицинской помощи используется автомобиль скорой медицинской помощи класса «A» или «B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628640"/>
            <a:ext cx="87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выездная бригада скорой медицинской помощи анестезиологии-реанимации, в том числе педиатрическа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ключает врача-анестезиолога-реаниматолога и двух медицинских сестер-анестезистов и водителя. Для организации деятельности специализированной выездной бригады скорой медицинской помощи анестезиологии-реанимации, в том числе педиатрической, используется автомобиль скорой медицинской помощи класса «C» соответствующего оснащ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854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571400"/>
            <a:ext cx="88200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едиатрическая выездная бригада скорой медицинской помощи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либо врача-педиатра, фельдшера скорой медицинской помощи и водителя, либо врача-педиатра, медицинскую сестру (медицинского брата) и водителя. Для организации деятельности специализированной педиатрической выездной бригады скорой медицинской помощи используется автомобиль скорой медицинской помощи класса «B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85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23640" y="1642680"/>
            <a:ext cx="85690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ая психиатрическая выездная бригада скорой медицинской помощи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ключает врача-психиатра, фельдшера скорой медицинской помощи, санитара и водителя, либо врача-психиатра, медицинскую сестру (медицинского брата), санитара и водителя. Для организации деятельности специализированной психиатрической выездной бригады скорой медицинской помощи используется автомобиль скорой медицинской помощи класса «B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8548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642680"/>
            <a:ext cx="83916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ая экстренная консультативная бригада скорой медицинской помощ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рача-специалиста отделения экстренной консультативной скорой медицинской помощи медицинской организации, фельдшера скорой медицинской помощи или медицинскую сестру (медицинского брата) и водителя. Для организации деятельности выездной экстренной консультативной бригады скорой медицинской помощи используется автомобиль скорой медицинской помощи класса «C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 в форме федерального статистического наблюдения № 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 заполняется станциями скорой медицинской помощи и медицинскими организациями, имеющими в своем составе отделения скорой медицинской помощ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46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388н от 20 июня 2013 г. (приложение 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00" y="1714680"/>
            <a:ext cx="8351640" cy="46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иамедицинская выездная бригада скорой медицинской помощ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не менее одного врача скорой медицинской помощи или врача анестезиолога-реаниматолога, фельдшера скорой медицинской помощи и (или) медицинскую сестру-анестезиста. Для обеспечения оказания медицинской помощи пациенту во время медицинской эвакуации при необходимости в состав авиамедицинской бригады могут включаться иные врачи-специалис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357120"/>
            <a:ext cx="835164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287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выездными бригад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 + 30.2200.2.05 + 30.2200.3.05 =  30.2120.3.03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357120"/>
            <a:ext cx="828036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200 «Сведения о деятельности выездных бригад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85480" y="1857240"/>
            <a:ext cx="8372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профильные выездные бригады скорой медицинской помощ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ездных бригад (смен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3. = 30.2200.11.03. + 30.2200.12.03. Число выездных круглосуточных брига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4. = 30.2200.11.04. + 30.2200.12.04. Число лиц, которым оказана помощь бригадам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200.1.05. = 30.2200.11.05. + 30.2200.12.05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143000"/>
            <a:ext cx="83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indent="-26820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1 «Из числа лиц, которым оказана скорая медицинская помощь общепрофильными фельдшерскими выездными бригадами – медицинская эвакуация 1 ______, из них сельских жителей 2_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 «Число лиц, которым оказана скорая медицинская помощь в амбулаторных условиях 1 _, из них сельских жителей 2 ________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ых строках 2201 и 2202 необходимо сравнить с данными предыдущего отчетного го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004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ываются сведения о числе лиц, которым оказана скорая медицинская помощь в амбулаторных условиях при непосредственном их обращении на станцию (отделение) скорой медицинской помощи. Сведения заполняются на основании данных, содержащихся в Журнале регистрации амбулаторных пациентов (учетная форма № 074/у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28800" y="356760"/>
            <a:ext cx="787248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2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 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лиц, которым оказана скорая медицинская помощь амбулаторно и при выполнении вызовов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120.3.03 + 30.2202.1.01. = 47.0400.1.0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7120" y="1484280"/>
            <a:ext cx="832968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скорой медицинской помощи и времени, затраченному на выполнение одного вызова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71680" y="1714680"/>
          <a:ext cx="8143560" cy="4789440"/>
        </p:xfrm>
        <a:graphic>
          <a:graphicData uri="http://schemas.openxmlformats.org/drawingml/2006/table">
            <a:tbl>
              <a:tblPr/>
              <a:tblGrid>
                <a:gridCol w="1761840"/>
                <a:gridCol w="757440"/>
                <a:gridCol w="1266840"/>
                <a:gridCol w="1546200"/>
                <a:gridCol w="1260360"/>
                <a:gridCol w="1550880"/>
              </a:tblGrid>
              <a:tr h="55872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времен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езда до места вызова скорой медицинской помщо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раченному на выполнение одного выз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3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мес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гр.5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сше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 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21 до 4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от 41 до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marL="889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олее 6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53440" cy="18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942 от 2 декабря 2009 г. «Об утверждении статистического инструментария станции (отделения), больницы скорой медицинской помощ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2349360"/>
            <a:ext cx="83516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доезда до места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это время от момента поступления вызова на станцию (отделение) скорой медицинской помощи до момента прибытия бригады скорой медицинской помощи к месту вызо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, затраченное на выполнение одного вызов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ремя от момента поступления вызова на станцию (отделение) скорой медицинской помощи до момента окончания выполнения вызова бригадой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26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5280" y="1773360"/>
            <a:ext cx="8407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1+2+3+4 гр. 3) = число вызовов скорой медицинской помощи, затраченному на выполнение одного вызова, всего (табл. 2300 стр. 1+2+3+4 гр. 5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вызова, всего (табл. 2300 стр. 1+2+3+4 гр. 3) = число выполненных вызовов, всего (табл.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, всего (табл. 2300 стр. 1+2+3+4 гр. 5) = число выполненных вызовов, всего (табл. 2120 стр. 1 гр. 3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344920"/>
            <a:ext cx="80154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е 3 показывается число станций (отделений) скорой медицинской помощи по числу выполненных вызовов в год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11280" y="1413000"/>
          <a:ext cx="7561080" cy="3998880"/>
        </p:xfrm>
        <a:graphic>
          <a:graphicData uri="http://schemas.openxmlformats.org/drawingml/2006/table">
            <a:tbl>
              <a:tblPr/>
              <a:tblGrid>
                <a:gridCol w="4054320"/>
                <a:gridCol w="1389240"/>
                <a:gridCol w="211752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 – 1, нет - 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полненных вызовов скорой медицинской помощи в год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100 тысяч (внекатегорийна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75 до 10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0 до 7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25 до 50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0 до 25 тысяч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10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нее 5 тысяч  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атегории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Заголовок 1"/>
          <p:cNvSpPr/>
          <p:nvPr/>
        </p:nvSpPr>
        <p:spPr>
          <a:xfrm>
            <a:off x="755640" y="476280"/>
            <a:ext cx="7993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00 «Число вызовов скорой медицинской помощи по времени доезда до места вызова и времени, затраченному на выполнение одного вызова скорой медицинской помощ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, затраченному на выполнение одного вызова на дорожно-транспортное происшествие (табл. 2300 стр. 1+2+3+4 гр. 6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по времени доезда до места дорожно-транспортного происшествия (табл. 2300 стр. 1+2+3+4 гр. 4) = число вызовов скорой медицинской помощи к пациентам, пострадавшим при дорожно-транспортных происшествиях (табл. 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, затраченному на выполнение одного вызова на место дорожно-транспортного происшествия (табл. 2300 стр. 1+2+3+4 гр. 6) = число вызовов скорой медицинской помощи к пациентам, пострадавшим при дорожно-транспортных происшествиях (табл.2350 стр. 6 гр. 3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484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82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еятельность медицинской организации по оказанию медицинской помощи в амбулаторных услови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682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649440"/>
          <a:ext cx="8643960" cy="6176880"/>
        </p:xfrm>
        <a:graphic>
          <a:graphicData uri="http://schemas.openxmlformats.org/drawingml/2006/table">
            <a:tbl>
              <a:tblPr/>
              <a:tblGrid>
                <a:gridCol w="6000840"/>
                <a:gridCol w="785880"/>
                <a:gridCol w="811080"/>
                <a:gridCol w="1046160"/>
              </a:tblGrid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 и повторным инфарктом миокарда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21-I22)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1): пациентов, нуждавшихся в проведении 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оказании скорой медицинской помощи в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ой организации при отсутств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цинских противопоказаний к прове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омболизи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проведено тромболизи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 с острыми цереброваскулярными болезнями 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60-I6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:  пациентов, у которых смерть наступила в транспортно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доставленных в региональные сосудисты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ы и первичные сосудистые отделения с ме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езрезультатных вызовов скорой медицинской помощи, е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азано в оказании скорой медицинской помощи по причине необоснованности в связи с отсутствием повода для вызова скорой медицинской помощ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0920" y="765000"/>
          <a:ext cx="8643960" cy="5301000"/>
        </p:xfrm>
        <a:graphic>
          <a:graphicData uri="http://schemas.openxmlformats.org/drawingml/2006/table">
            <a:tbl>
              <a:tblPr/>
              <a:tblGrid>
                <a:gridCol w="6000480"/>
                <a:gridCol w="785880"/>
                <a:gridCol w="785880"/>
                <a:gridCol w="1071720"/>
              </a:tblGrid>
              <a:tr h="86328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льских ж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600"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упило вызовов (обращений) для оказания медицинской помощи в неотложной фор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к пациентам, пострадавшим при дорожно-транспортных происшест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острадавших при дорожно-транспортных происшествиях, че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840">
                <a:tc>
                  <a:txBody>
                    <a:bodyPr lIns="58320" rIns="583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(из стр. 7):  со смертельным исходом до прибытия выездной брига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й медицинской помощи на место дорожно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 у которых смерть наступила в транспортн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стве при выполнении медицинской эвакуации 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а дорожно-транспортного происшествия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76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циентов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тавленных в травмоцентры 1 и 2 уров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еста дорожно-транспортного происшест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58320" rIns="583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ызовов скорой медицинской помощи по медицинскому обеспечению спортивных и других массов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320" rIns="58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8320" marR="58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85880" y="357120"/>
            <a:ext cx="794376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3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57120" y="1500120"/>
            <a:ext cx="8501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зовов скорой медицинской помощи к пациентам, пострадавшим при дорожно-транспортных происшествиях (строка 6 графа 3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4. + 30.2300.2.04. + 30.2300.3.04. + 30.2300.4.04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2350.6.03. = 30.2300.1.06. + 30.2300.2.06. + 30.2300.3.06. + 30.2300.4.0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484280"/>
            <a:ext cx="8329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00" y="27432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28760" y="1552680"/>
          <a:ext cx="7858080" cy="4540320"/>
        </p:xfrm>
        <a:graphic>
          <a:graphicData uri="http://schemas.openxmlformats.org/drawingml/2006/table">
            <a:tbl>
              <a:tblPr/>
              <a:tblGrid>
                <a:gridCol w="2857320"/>
                <a:gridCol w="785880"/>
                <a:gridCol w="1020600"/>
                <a:gridCol w="1065240"/>
                <a:gridCol w="1065240"/>
                <a:gridCol w="1063800"/>
              </a:tblGrid>
              <a:tr h="5302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со сроком эксплуатаци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 3 до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ыше 5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автомобилей скорой медицинской помощи – 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marL="187200" indent="809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В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класса «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8760" rIns="68760" tIns="0" bIns="0" anchor="t">
                      <a:noAutofit/>
                    </a:bodyPr>
                    <a:p>
                      <a:pPr marL="893880" indent="-62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 для новорожденных    и детей раннего возрас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мобили повышенно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им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260280"/>
            <a:ext cx="79437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413000"/>
            <a:ext cx="83008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класса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.04. + 30.5450.1.05. + 30.5450.1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А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1.03. = 30.5450.11.04. + 30.5450.11.05. + 30.5450.1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В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2.03. = 30.5450.12.04. + 30.5450.12.05. + 30.5450.12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.03. = 30.5450.13.04. + 30.5450.13.05. + 30.5450.13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класса «С» для новорожденных и детей раннего возраста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31.03. = 30.5450.131.04.+30.5450.131.05.+ 30.5450.131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повышенной проходим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4.03. = 30.5450.14.04. + 30.5450.14.05. + 30.5450.14.06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118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 «Оснащение станции (отделения) скорой медицинской помощ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560" y="1413000"/>
            <a:ext cx="8623080" cy="53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по срокам эксплуатаци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 автомобилей скорой медицинской помощ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3. = 30.5450.11.03. + 30.5450.12.03. + 30.5450.13.03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до 3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4. = 30.5450.11.04. + 30.5450.12.04. + 30.5450.13.04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от 3 до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5. = 30.5450.11.05. + 30.5450.12.05. + 30.5450.13.05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автомобилей скорой медицинской помощи со сроком эксплуатации свыше 5 лет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57120"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0.1.06. = 30.5450.11.06. + 30.5450.12.06. + 30.5450.13.0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549000"/>
            <a:ext cx="83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значительном изменении в числе автомобилей скорой медицинской помощи в 2019 г. по сравнению с 2018 г. следует предоставить поясн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классифицированных автомобилей скорой медицинской помощи следует предоставить пояснение по их распределению по сроку эксплуат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60 «Категорийность станции (отделения) скорой медицинской помощ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й контроль: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1060.1.03 + 30.1060.2.03 + 30.1060.3.03 + 30.1060.4.03 + 30.1060.5.03 + 30.1060.6.03 + 30.1060.7.03</a:t>
            </a: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7.0400.1.03 + 47.0400.1.04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            № 752 от 1 декабря 2005 г.                 «Об оснащении санитарного автотранспорта» регламентировал разделение автомобилей скорой медицинской помощи по классам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А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автомобили скорой медицинской помощи, предназначенные для транспортировки пациентов, не являющихся экстренными пациентами, в сопровождении медицинского персонала общепрофильной фельдшерской выездной бригады скорой медицинской помощ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8400" y="1857240"/>
            <a:ext cx="83199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В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врачебной (фельдшерской) общепрофильной выездной бригады скорой медицинской помощи, транспортировки и мониторинга состояния пациентов на догоспитальном эта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968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оссийской Федерации № 752 от 1 декабря 2005 г.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скорой медицинской помощи класса «С»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автомобили скорой медицинской помощи, предназначенные для проведения лечебных мероприятий скорой медицинской помощи силами специализированной выездной бригады скорой медицинской помощи анестезиологии-реанимации, в том числе педиатрической, транспортировки и мониторинга состояния пациентов на догоспитальном этап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28760" y="571320"/>
            <a:ext cx="82296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5450. Оснащение станции (отделения) скорой медицинской помощ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обили  повышенной проходимост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ездеходы, санитарные автомобили на базе «КАМАЗа» и другие» (из строки 1) - транспортное средство на базе дорожного автомобиля, повышение проходимости которого обеспечено: приводом  на все колеса, постановкой дополнительной раздаточной коробки, использованием шин с регулируемым давлением воздуха,  установкой блокируемых дифференциалов или дифференциалов  повышенного трения, лебедки и других приспособлений для преодоления препятствий или на базе транспортного средства специального назначения на гусеницах, шнеках, колесах низкого давл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автомобилей скорой медицинской помощи, находящихся на аутсорсинге, следует предоставить пояснение по их числ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95280" y="1268280"/>
            <a:ext cx="8329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бота диагностических отделений (кабинет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танций (отделений) скорой медицинской помощи, оснащенных медицинской информационной системой для автоматизации работы станции (отделения) скорой медицинской помощи, обеспечивающей автоматизацию системы управления приемом, обработкой и передачей поступающих вызовов (обращений), автоматизацию системы диспетчеризации автомобилей скорой медицинской помощи 1_____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5453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й контроль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.5453.1.01 = &lt; 30.1060.1.03 + 30.1060.2.03 + 30.1060.3.03+ 30.1060.4.03 + 30.1060.5.03 + 30.1060.6.03 + 30.1060.7.0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даче отчетов следует указать название программы автоматизированной системы управления приема и обработки вызовов скорой медицинской помощи, установленной на станциях (отделениях) скорой медицинской помощ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заполняемые в подтабличной строке 5453 необходимо сравнить с данными предыдущего отчетного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Штаты медицинск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Персонал станций (отделений) скорой медицинской помощ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деятельности скорой медицинской помощ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68360" y="1500120"/>
          <a:ext cx="8462880" cy="4773600"/>
        </p:xfrm>
        <a:graphic>
          <a:graphicData uri="http://schemas.openxmlformats.org/drawingml/2006/table">
            <a:tbl>
              <a:tblPr/>
              <a:tblGrid>
                <a:gridCol w="1655640"/>
                <a:gridCol w="863640"/>
                <a:gridCol w="941400"/>
                <a:gridCol w="1251000"/>
                <a:gridCol w="1249200"/>
                <a:gridCol w="1251000"/>
                <a:gridCol w="1251000"/>
              </a:tblGrid>
              <a:tr h="3524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-кий 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сон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 основных работников на занятых должностях,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105 «Должности и физические лица станции (отделения) скор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6760" y="1214280"/>
            <a:ext cx="8535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яют сведения о штатных, занятых должностях, физических лицах всего персонала станции (отделения) скорой медицинской помощи, из них врачей, среднего медицинского персонала, младшего медицинского персонала, прочего персонал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ий персонал станции (отделения) скорой медицинской помощи – это водители и прочий персонал. В прочий персонал (графа 7) включают специалистов с немедицинским образование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изоры указываются в графе 4 «Врачи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just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вты – в графе 5 «Средний медицинский персонал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25:46Z</dcterms:created>
  <dc:creator>s.shlyafer</dc:creator>
  <dc:description/>
  <dc:language>en-US</dc:language>
  <cp:lastModifiedBy>Vaio</cp:lastModifiedBy>
  <dcterms:modified xsi:type="dcterms:W3CDTF">2019-12-10T04:45:47Z</dcterms:modified>
  <cp:revision>457</cp:revision>
  <dc:subject/>
  <dc:title>Заполнение сведений о работе службы скорой медицинской помощи в форме федерального статистического наблюдения № 30 «Сведения о медицинской организации» в 2014 г.    Шляфер София Исааковна</dc:title>
</cp:coreProperties>
</file>